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72C1-304D-4856-BBA3-D9EE39CFC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79E0-4125-4565-AF21-B9CBAE62C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FB83-EB65-4798-8232-20BF17F45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BAAE-2BCF-47E2-B16A-4821284D9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42E-54ED-4B36-AFF8-C39FCEF9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A10-DB52-4B18-ABF6-FCFA58CB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B7A-11A2-4AD2-85F1-A6FE68FA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1BF-2453-4CED-9BCD-57E683D1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CD1-83D5-469C-9E2E-93664CCE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4B6-79D5-444C-9DF3-370D57D3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A54-C0ED-4B4D-821F-D305E969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A817-DF4C-4A9B-99D2-25DA0BDF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3964-C997-4B74-807C-BE6DD652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E2E8-3DF0-4B0C-AB83-90FA69EE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251-1363-4522-B059-D17DC7BD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8754-03E8-479D-89B0-8A59A191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482A-7956-4091-B482-649C2FA6E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Feedback Lo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dentify positive and negative feedback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Describe how feedback systems impact global climate 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Gravitational energy, thermal energy, and/or chemical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 energy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 system is in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3. Matter moves and changes to return a system to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8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Feedback loops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can accelerate, decelerate, or dampen change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dback Loop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Positive feedback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: a change in the system causes further changes in the system such that some component in the system </a:t>
            </a:r>
            <a:r>
              <a:rPr b="0" i="1" lang="en-US" sz="2200" spc="-1" strike="noStrike">
                <a:solidFill>
                  <a:srgbClr val="0000ad"/>
                </a:solidFill>
                <a:latin typeface="Arial"/>
              </a:rPr>
              <a:t>increases overall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Negative feedback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: a change in a system causes and opposite response in the system such that the system is </a:t>
            </a:r>
            <a:r>
              <a:rPr b="0" i="1" lang="en-US" sz="2200" spc="-1" strike="noStrike">
                <a:solidFill>
                  <a:srgbClr val="0000ad"/>
                </a:solidFill>
                <a:latin typeface="Arial"/>
              </a:rPr>
              <a:t>closer to equilibrium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 In this case, the negative feedback component will decrease the size of the changes going on in the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Negative Feedback Loop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5181480" y="633420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bio.miami.edu/~cmallery/150/physiol/c44x10thermo-reg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negfeedbackloop.jpg"/>
          <p:cNvPicPr/>
          <p:nvPr/>
        </p:nvPicPr>
        <p:blipFill>
          <a:blip r:embed="rId1"/>
          <a:stretch/>
        </p:blipFill>
        <p:spPr>
          <a:xfrm>
            <a:off x="615960" y="730080"/>
            <a:ext cx="7912080" cy="53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Positive Feedback Loop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181480" y="633420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sitemaker.umich.edu/section2_group1/files/secondfeedback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secondfeedback.jpg"/>
          <p:cNvPicPr/>
          <p:nvPr/>
        </p:nvPicPr>
        <p:blipFill>
          <a:blip r:embed="rId1"/>
          <a:stretch/>
        </p:blipFill>
        <p:spPr>
          <a:xfrm>
            <a:off x="1295280" y="990720"/>
            <a:ext cx="6604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afrost and Global Warming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1" name="Picture 3" descr="FIGURESCIRCACTIVITY.png"/>
          <p:cNvPicPr/>
          <p:nvPr/>
        </p:nvPicPr>
        <p:blipFill>
          <a:blip r:embed="rId1"/>
          <a:stretch/>
        </p:blipFill>
        <p:spPr>
          <a:xfrm>
            <a:off x="1219320" y="129528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533520" y="5486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the diagram, label the steps for how global warming and permafrost have a positive feedback loo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Feedback Loop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4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8:00:37Z</dcterms:created>
  <dc:creator>Julie Libarkin</dc:creator>
  <dc:description/>
  <dc:language>en-US</dc:language>
  <cp:lastModifiedBy>Nicole LaDue</cp:lastModifiedBy>
  <dcterms:modified xsi:type="dcterms:W3CDTF">2010-12-20T20:32:41Z</dcterms:modified>
  <cp:revision>310</cp:revision>
  <dc:subject/>
  <dc:title>PowerPoint Presentation</dc:title>
</cp:coreProperties>
</file>